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554C-E6CD-452C-80E3-A82B14F2ADAC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D6D3-EF9E-4B93-9D46-DDE78E7D726B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B7B-46AF-41AE-8CD4-5102B097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A66-0862-432B-B65B-70B4FBB7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F9A-259F-4DCA-A789-A1D699C10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8CD3-04AF-47A9-840F-E144817B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1F88-46B7-4654-9561-6150BBA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789-3B98-426D-9AF0-C124311B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DFD4-D87E-4900-A298-02ABC5D6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249-B42F-430C-AEA9-BB2FB875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D68-FA08-416A-BD71-10BB19A53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1E6E-2D12-4B84-A8CF-E6480ECB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5A9-74F7-4100-AD51-0CA49739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703-AB4C-4342-A243-5BC908C5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7BC6-356E-48A1-A08F-1C8AB12E98D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tapainfantil.blogspot.com.es/p/proyecto-de-arte-con-pedro-cano.htm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1.bp.blogspot.com/-RHMRYvh4-wQ/TXawrC6MjeI/AAAAAAAAMaE/zNKeNVwZR3c/s1600/IMG_2888.JPG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4.bp.blogspot.com/-Vl14vYWdwro/TXawrNODRXI/AAAAAAAAMZ8/AzvWt_DAqw0/s1600/IMG_2891.JPG" TargetMode="External"/><Relationship Id="rId6" Type="http://schemas.openxmlformats.org/officeDocument/2006/relationships/image" Target="../media/image6.jpeg"/><Relationship Id="rId7" Type="http://schemas.openxmlformats.org/officeDocument/2006/relationships/hyperlink" Target="http://3.bp.blogspot.com/-62Ss6puQNXw/TXawqyg7QyI/AAAAAAAAMZ0/akD-dXwkUI0/s1600/IMG_2890.JPG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1.bp.blogspot.com/-e1kW93sNPOs/TXawrfpD2mI/AAAAAAAAMaM/kGQs82Qls1k/s1600/IMG_2886.JPG" TargetMode="External"/><Relationship Id="rId10" Type="http://schemas.openxmlformats.org/officeDocument/2006/relationships/image" Target="../media/image8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s://docs.google.com/file/d/0B-5WIO0WkwcEZjY1MGZhYWItOGMzMC00OWRlLWI2N2YtMWM5Y2U5NjkxYTU3/edit?hl=en_US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think1.tv/videoteca/es/index/0-37/proyecto-comprension-4-primari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Escribir+y+cantar+una+canci&#243;n+de+denuncia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hyperlink" Target="http://revolucion-industrial.wikispaces.com/file/view/Informaci&#243;n%20escrita%20para%20la%20canci&#243;n%20protesta.doc/356187732/Informaci&#243;n%20escrita%20para%20la%20canci&#243;n%20protesta.doc" TargetMode="External"/><Relationship Id="rId5" Type="http://schemas.openxmlformats.org/officeDocument/2006/relationships/hyperlink" Target="http://www.redkaraoke.com/" TargetMode="External"/><Relationship Id="rId6" Type="http://schemas.openxmlformats.org/officeDocument/2006/relationships/hyperlink" Target="http://www.slideshare.net/AnaBasterra/redkaraoke-karaoke-online-14247087" TargetMode="External"/><Relationship Id="rId7" Type="http://schemas.openxmlformats.org/officeDocument/2006/relationships/hyperlink" Target="http://revolucion-industrial.wikispaces.com/file/view/PLANTILLA%20DE%20EVALUACI&#211;N%20ESCRIBIR%20Y%20CANTAR%20UNA%20CANCI&#211;N.doc/397546404/PLANTILLA%20DE%20EVALUACI&#211;N%20ESCRIBIR%20Y%20CANTAR%20UNA%20CANCI&#211;N.doc" TargetMode="External"/><Relationship Id="rId8" Type="http://schemas.openxmlformats.org/officeDocument/2006/relationships/hyperlink" Target="http://revolucion-industrial.wikispaces.com/file/view/MI%20DIARIO%20DE%20APRENDIZAJE.doc/383179572/MI%20DIARIO%20DE%20APRENDIZAJE.doc" TargetMode="External"/><Relationship Id="rId9" Type="http://schemas.openxmlformats.org/officeDocument/2006/relationships/hyperlink" Target="http://revolucion-industrial.wikispaces.com/file/view/PLANTILLA%20DE%20EVALUACI&#211;N%20ESCRIBIR%20Y%20CANTAR%20UNA%20CANCI&#211;N.doc/397546404/PLANTILLA%20DE%20EVALUACI&#211;N%20ESCRIBIR%20Y%20CANTAR%20UNA%20CANCI&#211;N.doc" TargetMode="External"/><Relationship Id="rId10" Type="http://schemas.openxmlformats.org/officeDocument/2006/relationships/hyperlink" Target="http://www.slideshare.net/AnaBasterra/redkaraoke-karaoke-online-14247087" TargetMode="Externa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vimeo.com/69410806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468360" y="692280"/>
            <a:ext cx="8424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s paramos a pensar y reflexiona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35280" y="5229360"/>
            <a:ext cx="547344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inteligencias se trabaj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competenci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http://fermanzanilla.mx/wp-content/uploads/2013/01/pensar-o-sentir.jpg"/>
          <p:cNvPicPr/>
          <p:nvPr/>
        </p:nvPicPr>
        <p:blipFill>
          <a:blip r:embed="rId1"/>
          <a:stretch/>
        </p:blipFill>
        <p:spPr>
          <a:xfrm>
            <a:off x="2340000" y="1628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711840" cy="4176720"/>
          </a:xfrm>
          <a:prstGeom prst="rect">
            <a:avLst/>
          </a:prstGeom>
          <a:ln w="0">
            <a:noFill/>
          </a:ln>
        </p:spPr>
      </p:pic>
      <p:sp>
        <p:nvSpPr>
          <p:cNvPr id="88" name="2 CuadroTexto"/>
          <p:cNvSpPr/>
          <p:nvPr/>
        </p:nvSpPr>
        <p:spPr>
          <a:xfrm>
            <a:off x="1403280" y="53737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esía amorosa del siglo 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ES La Rosaleda (Mála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1619280" y="942840"/>
            <a:ext cx="5400720" cy="39481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547640" y="5013360"/>
            <a:ext cx="5761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voz de Latino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legio Ayalde 4º ESO (Bizka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355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63640" y="3733920"/>
            <a:ext cx="5219640" cy="3124080"/>
          </a:xfrm>
          <a:prstGeom prst="rect">
            <a:avLst/>
          </a:prstGeom>
          <a:ln w="0">
            <a:noFill/>
          </a:ln>
        </p:spPr>
      </p:pic>
      <p:sp>
        <p:nvSpPr>
          <p:cNvPr id="93" name="3 CuadroTexto"/>
          <p:cNvSpPr/>
          <p:nvPr/>
        </p:nvSpPr>
        <p:spPr>
          <a:xfrm>
            <a:off x="493236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entamos nuestras cre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4 CuadroTexto"/>
          <p:cNvSpPr/>
          <p:nvPr/>
        </p:nvSpPr>
        <p:spPr>
          <a:xfrm>
            <a:off x="2268360" y="580536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istorias en primer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119240" y="1066680"/>
            <a:ext cx="69055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051840" cy="4005000"/>
          </a:xfrm>
          <a:prstGeom prst="rect">
            <a:avLst/>
          </a:prstGeom>
          <a:ln w="0">
            <a:noFill/>
          </a:ln>
        </p:spPr>
      </p:pic>
      <p:sp>
        <p:nvSpPr>
          <p:cNvPr id="97" name="4 CuadroTexto"/>
          <p:cNvSpPr/>
          <p:nvPr/>
        </p:nvSpPr>
        <p:spPr>
          <a:xfrm>
            <a:off x="1116000" y="5157720"/>
            <a:ext cx="655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iencias paseand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º ESO Instituto Artaza Romo (Bizka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254560" y="1700280"/>
            <a:ext cx="3889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fantil y Prim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primaria"/>
          <p:cNvPicPr/>
          <p:nvPr/>
        </p:nvPicPr>
        <p:blipFill>
          <a:blip r:embed="rId1"/>
          <a:stretch/>
        </p:blipFill>
        <p:spPr>
          <a:xfrm>
            <a:off x="250920" y="981000"/>
            <a:ext cx="5113080" cy="364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psicologia-infantil"/>
          <p:cNvPicPr/>
          <p:nvPr/>
        </p:nvPicPr>
        <p:blipFill>
          <a:blip r:embed="rId2"/>
          <a:stretch/>
        </p:blipFill>
        <p:spPr>
          <a:xfrm>
            <a:off x="5364000" y="3573360"/>
            <a:ext cx="3619800" cy="30481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1476360" y="5229360"/>
            <a:ext cx="1655640" cy="93636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125280 h 936360"/>
              <a:gd name="textAreaBottom" fmla="*/ 811080 h 93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4f81bd"/>
          </a:solidFill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260280"/>
            <a:ext cx="7416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royecto de Arte con Pedro Can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Aula de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Imagen1"/>
          <p:cNvPicPr/>
          <p:nvPr/>
        </p:nvPicPr>
        <p:blipFill>
          <a:blip r:embed="rId2"/>
          <a:stretch/>
        </p:blipFill>
        <p:spPr>
          <a:xfrm>
            <a:off x="324000" y="981000"/>
            <a:ext cx="3047760" cy="2152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IMG_288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0920" y="45813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IMG_289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0920" y="3213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5" descr="IMG_2890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9280" y="328464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IMG_2886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4581360"/>
            <a:ext cx="1905120" cy="14288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6"/>
          <p:cNvSpPr/>
          <p:nvPr/>
        </p:nvSpPr>
        <p:spPr>
          <a:xfrm>
            <a:off x="4427640" y="992160"/>
            <a:ext cx="4394160" cy="562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obras del ar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abajamos diferentes conceptos: Arriba-Abajo, Alto-Bajo, Abierto-Cerrado, Dentro-Fuera, Grande-Mediano-Pequeño, Lejos-Cerca, Colore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alumnos pintan en papel y en la PDI utilizando estos concep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radio con Pedro 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limos en la tele practicando con la P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s visita Pedro C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ocemos la vida de Pedro Cano (pictogramas, acercamiento a la lecto-escritu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uego on-line sobre el art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02600" cy="50767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484360" y="5877000"/>
            <a:ext cx="5256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Nos vamos de compr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” 3º E.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5219640" y="189000"/>
            <a:ext cx="3600360" cy="39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7524720" cy="4729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5292720" y="333360"/>
            <a:ext cx="3600360" cy="479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Lluvia de ideas sobre las monedas de uso legal. Se usa la pizarra 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Troquelamos monedas y las identific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alculamos con las monedas distintas 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Realizamos los murales de las tiendas con los materiales apor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ificamos la compra con una cantidad 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izamos las comp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50920" y="4840200"/>
            <a:ext cx="8281800" cy="162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ompra real en el 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xposición oral de las situaciones vividas durante la comp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Diario de la exper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Reflexionamos sobre nuestro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7345440" cy="4434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476360" y="5373720"/>
            <a:ext cx="6480360" cy="113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lud y cuerp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royecto de Comprensión 4º de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cunda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portada3"/>
          <p:cNvPicPr/>
          <p:nvPr/>
        </p:nvPicPr>
        <p:blipFill>
          <a:blip r:embed="rId1"/>
          <a:stretch/>
        </p:blipFill>
        <p:spPr>
          <a:xfrm>
            <a:off x="684360" y="1268280"/>
            <a:ext cx="8105760" cy="1619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secundaria"/>
          <p:cNvPicPr/>
          <p:nvPr/>
        </p:nvPicPr>
        <p:blipFill>
          <a:blip r:embed="rId2"/>
          <a:stretch/>
        </p:blipFill>
        <p:spPr>
          <a:xfrm>
            <a:off x="0" y="3716280"/>
            <a:ext cx="91440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REA: </a:t>
            </a:r>
            <a:r>
              <a:rPr b="0" lang="es-E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Escribimos una canción protesta y la cant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congo390"/>
          <p:cNvPicPr/>
          <p:nvPr/>
        </p:nvPicPr>
        <p:blipFill>
          <a:blip r:embed="rId2"/>
          <a:stretch/>
        </p:blipFill>
        <p:spPr>
          <a:xfrm>
            <a:off x="0" y="981000"/>
            <a:ext cx="3714840" cy="2619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ANd9GcTl22c1Cgv_nMz3ooqeJmfsFG-OGzy1I6Z5X1tWlkxLagvsYUeJAg"/>
          <p:cNvPicPr/>
          <p:nvPr/>
        </p:nvPicPr>
        <p:blipFill>
          <a:blip r:embed="rId3"/>
          <a:stretch/>
        </p:blipFill>
        <p:spPr>
          <a:xfrm>
            <a:off x="250920" y="3933720"/>
            <a:ext cx="3382920" cy="2538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9"/>
          <p:cNvSpPr/>
          <p:nvPr/>
        </p:nvSpPr>
        <p:spPr>
          <a:xfrm>
            <a:off x="3780000" y="907920"/>
            <a:ext cx="5113080" cy="586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1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emos, escuchamos y leemos canciones protesta (ejemplos, model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2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uscamos información en Internet para la canción protesta.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lantil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ara recoger la información escr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3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nsamos en la música de nuestra canción. Utilizamos la aplicación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REDKARAOK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4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enzamos a escribir nuestra canción.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Orientaciones y plantilla de 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5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cribimos en nuestro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iario de aprendiz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6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dactamos el texto definitivo de nuestra canción. </a:t>
            </a: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lantilla de evalu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7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sayamos la can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8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bamos nuestra canc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Tu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Arial"/>
              </a:rPr>
              <a:t>ACTIVIDAD 9: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stramos nuestra grabación a nuestros compañ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5 Rectángulo"/>
          <p:cNvSpPr/>
          <p:nvPr/>
        </p:nvSpPr>
        <p:spPr>
          <a:xfrm>
            <a:off x="1908000" y="54936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ctividad puede ser individual , en pareja</a:t>
            </a:r>
            <a:r>
              <a:rPr b="0" lang="es-E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en gru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076720" y="5950080"/>
            <a:ext cx="3276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º A Instituto de Astrabudu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95280" y="189000"/>
            <a:ext cx="4032360" cy="666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ALE CHARO: CHE CHE CHEKA CHEKA VAMONOS A GRAN BRETAÑA SH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A TARDE DE ABRIL VI A UNA CUADRILLA JUVENIL QUE TRABAJABA EN LA FABRICA TEXTI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O ES EL TRABAJADOR JUVENIL ELLOS NO SABEN SI REIR O SUFRIR YO ME QUIERO MORIR PORQUE NO ME GUSTA VERLOS SUFR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FUERA POR MI DARIA LO MEJOR DE MI TIRIRIRIRIR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TRABAJO JUVENIL ES  LO PEOR QUE TE PUEDDE PASAR A TI TIRIRIR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QUIERES VETE AHÍ Y NO LES DEJES SUFRIR AHÍ TIRIRIR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 QUIERES APRENDER LO QUE ESTAN HACIENDO AHÍ VETE PARA ALLI TIRIRIR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HÍ AHÍ VETE A LA WIKI Y YA VERAS LO QUE HAY AHI TIRIRIR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O ES DE MI Y TE LO DEDICO A TI CON TODO MI CORAZON PATI TIRIRIRIRIRIRIRIIR Y QUIEN ME LO NIEGE QUE SE VAYA PARA AHÍ TIRIRI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219640" y="404640"/>
            <a:ext cx="331308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4788000" y="260280"/>
            <a:ext cx="39592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obre el trabajo infantil en la actu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"/>
          <p:cNvSpPr/>
          <p:nvPr/>
        </p:nvSpPr>
        <p:spPr>
          <a:xfrm>
            <a:off x="5148360" y="1125360"/>
            <a:ext cx="338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6 Imagen" descr="Dibujo.jpg"/>
          <p:cNvPicPr/>
          <p:nvPr/>
        </p:nvPicPr>
        <p:blipFill>
          <a:blip r:embed="rId1"/>
          <a:stretch/>
        </p:blipFill>
        <p:spPr>
          <a:xfrm>
            <a:off x="4788000" y="2276640"/>
            <a:ext cx="4356000" cy="2171520"/>
          </a:xfrm>
          <a:prstGeom prst="rect">
            <a:avLst/>
          </a:prstGeom>
          <a:ln w="0">
            <a:noFill/>
          </a:ln>
        </p:spPr>
      </p:pic>
      <p:sp>
        <p:nvSpPr>
          <p:cNvPr id="84" name="7 CuadroTexto"/>
          <p:cNvSpPr/>
          <p:nvPr/>
        </p:nvSpPr>
        <p:spPr>
          <a:xfrm>
            <a:off x="5076720" y="522936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taora: Char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5076720" y="1484280"/>
            <a:ext cx="3167280" cy="459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5º y 6º de Prim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5751720" y="4676760"/>
            <a:ext cx="9579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5:59:58Z</dcterms:created>
  <dc:creator>ana</dc:creator>
  <dc:description/>
  <dc:language>en-US</dc:language>
  <cp:lastModifiedBy>ana</cp:lastModifiedBy>
  <dcterms:modified xsi:type="dcterms:W3CDTF">2015-04-07T16:43:43Z</dcterms:modified>
  <cp:revision>4</cp:revision>
  <dc:subject/>
  <dc:title>Diapositiva 1</dc:title>
</cp:coreProperties>
</file>